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2D2-BFD7-45E5-82AF-DDF543FE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DA3-477A-4524-B337-1DBBEF73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EA0-1E50-4BDF-A49B-DE6E3C4A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539-C2F6-4F1C-86AB-B5ADA2EA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2D9-7BA5-45DA-B03C-49BAAF31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35F-E363-450D-BECD-C6A3E2D1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773-5E36-484A-B9F9-16B574E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F7C-4FF1-4EC2-9837-5E1B07EA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E02-D220-4897-A9CD-112A2CBB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C10-8D7A-4F84-830B-E696CBD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88E-B50E-4978-976C-FE47EFFB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B3F-6ACA-409A-9826-C0DB97E5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E0E3-E6E1-428D-990E-70B9C9FEF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1 Classifying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ubsta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447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tter that alway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s exactly the same fixed, uniform composition (make-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209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ble salt;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590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categories of pure subst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971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lements:  substance which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annot be broken down in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pler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733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ix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mposition because it only has one kind of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267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ompounds: substance that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ade from 2 or mo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pler substances and can be broken down in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se simple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perties of a compou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DIFFERENT tha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se of the substance which make the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523880"/>
            <a:ext cx="7086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pounds ALWAY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ntain 2 or more elements joined in a FIXED proportion.  EX: H</a:t>
            </a:r>
            <a:r>
              <a:rPr b="0" lang="en-US" sz="24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bo of variou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ubstances (each stays as it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352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fix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m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sal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categories of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3434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s noticeabl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omogeneous—substances even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stributed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fficult to tell one substance from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s lik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ne sub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057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ater in a swimming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hlorine, wate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895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homogenous mixtu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med when substances dis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indshield fluid –substance dissolves to for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038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495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terogeneous mixtu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t separates into layers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952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inegar and oil salad dressing – distinct layers after a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ile left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371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ubstance which contains som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that are intermediate (middle) in size between the smaller particles in a solution and the larger particles in a 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514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 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mogenized milk –fat la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g – water dro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2:40:34Z</dcterms:created>
  <dc:creator>jpak</dc:creator>
  <dc:description/>
  <dc:language>en-US</dc:language>
  <cp:lastModifiedBy>Customer</cp:lastModifiedBy>
  <dcterms:modified xsi:type="dcterms:W3CDTF">2009-10-02T12:25:18Z</dcterms:modified>
  <cp:revision>13</cp:revision>
  <dc:subject/>
  <dc:title>Note Guide 3-1 Classifying Matter</dc:title>
</cp:coreProperties>
</file>